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7CA2-044D-44F0-8D37-0D974F0B6736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FD39-062E-4F87-8F1F-2D0AAFAD66BD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4474-130F-47B5-9CC1-B273B6EBE4EE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EA59-5489-4BCE-A007-ED870839063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7763-CD7A-4E44-8222-B9A63C63A3F3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BE3B-FBFD-4FD8-8015-930BFA03FD42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5297-38FB-46AB-B8C8-F05057DD561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AD4C-EF8C-4D06-A4C1-F87084EBAB0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B12A-BBBE-4C51-9B7C-7533E99C19DE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AE45-CA02-4443-AA5D-B38E5BE6EDB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3583-70A2-44F6-9EAB-A06C3ED497C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5E72-7E37-4F08-BCB8-0DC000D8F8E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9B73-7084-408D-856B-AF2F76B2482E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E6C0-0617-4CA0-8346-47E1DC4E380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8121-F14F-448A-AFCC-7904B149D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45AA-BFD6-4608-B22C-A033087D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BF2A-5E12-4B1B-A8CB-8289D1F8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DB9B-1133-4845-BD55-0270C3D3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F02A-1891-4D2D-B2BC-718B1B1D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FCB1-BA02-4AA1-AEE2-54829142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170E-00DC-45B1-A7CC-3AE60B35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F2D6-4368-4F17-BE8D-493CE6CF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42B6-5262-450A-AAFC-98079FA9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E13F-5D22-4011-8F95-1A8D3CE3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C619-FE8C-4373-AA37-7C8CFB6E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2C34-A85A-4ED6-8AC1-CBFE5907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798C-DAF6-415D-9C7A-7A0569FF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29AF-1DFF-4A81-85C6-91AF1A3C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6AE2-F8D4-4AAF-98C3-15B045A3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5CD0-EC09-4EDA-8DF6-4AA3D2A4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DC03-2C93-4851-AB7F-AF6217E7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64C36-BE0D-4509-B0D1-92B9B233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BFF5A-A9CE-4A07-9DB0-643419F5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E4D09-9F88-4A2F-BAEA-920626D7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0E3C5-499C-45CB-94BA-67A05C11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D37CF-915C-414E-8DD9-DB7B06C0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3949-D331-4A26-973A-1E0AAAF1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AE4FC-ED5B-40CB-81CA-609E707F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4D824-5980-4481-ADB2-3773A7CF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BCD06-3255-450F-9E63-FB12B98C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180D2-E38C-4D69-9396-9850F8E5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9BCF7-835D-4D86-946E-2C864D40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5261A-55C2-4501-8485-B37B1F19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6AD61-1288-48CD-BB1E-97942109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20DD-C163-4CA5-9AB8-25840A78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742E-FF00-4819-8776-64170F9A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DF3C-E326-4772-8849-9021CE56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783-3715-4028-A740-4AE87C95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7B19-993B-46D8-94A9-56D405D0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BB49-9913-4EE9-9C9C-798A98EA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D41E-68C6-409A-A1BF-EA28019C3282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5143680" y="522360"/>
            <a:ext cx="3503520" cy="938160"/>
          </a:xfrm>
          <a:prstGeom prst="rect">
            <a:avLst/>
          </a:prstGeom>
          <a:solidFill>
            <a:srgbClr val="f0eee4"/>
          </a:solidFill>
          <a:ln w="25560">
            <a:solidFill>
              <a:srgbClr val="f0e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476280" y="501480"/>
            <a:ext cx="4762440" cy="998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7786800" y="487440"/>
            <a:ext cx="876240" cy="118260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9"/>
          <p:cNvSpPr/>
          <p:nvPr/>
        </p:nvSpPr>
        <p:spPr>
          <a:xfrm>
            <a:off x="463680" y="156528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4"/>
          <a:stretch/>
        </p:blipFill>
        <p:spPr>
          <a:xfrm>
            <a:off x="5214960" y="500040"/>
            <a:ext cx="2581200" cy="95580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1"/>
          <p:cNvSpPr/>
          <p:nvPr/>
        </p:nvSpPr>
        <p:spPr>
          <a:xfrm>
            <a:off x="476280" y="624060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9DB3-72EE-46CA-9073-75463A1421DF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C83B-70D0-4F69-953E-303C3FAB146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lectrical_safety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file:///HeatStress.ppt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hyperlink" Target="file:///chemical%20hazard%20.ppt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LaserSafetyTraining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Lab Safety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Physical and Chemical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Haza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.Khosra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akhosravi@yahoo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428560" y="1714680"/>
            <a:ext cx="62578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lvl="2" marL="55404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adding items to LN2.  Rapid addition of items can result in splashes to the face and ha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ounded Rectangle 3"/>
          <p:cNvSpPr/>
          <p:nvPr/>
        </p:nvSpPr>
        <p:spPr>
          <a:xfrm>
            <a:off x="47160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302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305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308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311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314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17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2571480" y="1714680"/>
            <a:ext cx="59626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isotope includes both sealed and unsealed sour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led:  gas chromatograph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sealed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2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Group 6"/>
          <p:cNvGrpSpPr/>
          <p:nvPr/>
        </p:nvGrpSpPr>
        <p:grpSpPr>
          <a:xfrm>
            <a:off x="5651640" y="4076640"/>
            <a:ext cx="1657080" cy="1968480"/>
            <a:chOff x="5651640" y="4076640"/>
            <a:chExt cx="1657080" cy="1968480"/>
          </a:xfrm>
        </p:grpSpPr>
        <p:pic>
          <p:nvPicPr>
            <p:cNvPr id="321" name="Picture 4" descr="87"/>
            <p:cNvPicPr/>
            <p:nvPr/>
          </p:nvPicPr>
          <p:blipFill>
            <a:blip r:embed="rId1"/>
            <a:stretch/>
          </p:blipFill>
          <p:spPr>
            <a:xfrm>
              <a:off x="5651640" y="4076640"/>
              <a:ext cx="165708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5"/>
            <p:cNvSpPr/>
            <p:nvPr/>
          </p:nvSpPr>
          <p:spPr>
            <a:xfrm>
              <a:off x="5851080" y="567684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adioac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ounded Rectangle 6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Rounded Rectangle 7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25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Rounded Rectangle 9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28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Rounded Rectangle 11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31" name="Rounded Rectangle 11" descr=""/>
            <p:cNvPicPr/>
            <p:nvPr/>
          </p:nvPicPr>
          <p:blipFill>
            <a:blip r:embed="rId4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Rounded Rectangle 12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34" name="Rounded Rectangle 12" descr=""/>
            <p:cNvPicPr/>
            <p:nvPr/>
          </p:nvPicPr>
          <p:blipFill>
            <a:blip r:embed="rId5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Rounded Rectangle 13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37" name="Rounded Rectangle 13" descr=""/>
            <p:cNvPicPr/>
            <p:nvPr/>
          </p:nvPicPr>
          <p:blipFill>
            <a:blip r:embed="rId6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Rounded Rectangle 14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41" name="Rounded Rectangle 14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2571840" y="1785960"/>
            <a:ext cx="6114960" cy="4340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radioactive materials requires prior authorization from the UAF Radiation Safety Offic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907-474-6771)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TE: All project members must have UAF Training and Authoriz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ounded Rectangle 12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Rounded Rectangle 13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46" name="Rounded Rectangle 13" descr=""/>
            <p:cNvPicPr/>
            <p:nvPr/>
          </p:nvPicPr>
          <p:blipFill>
            <a:blip r:embed="rId1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Rounded Rectangle 15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49" name="Rounded Rectangle 15" descr=""/>
            <p:cNvPicPr/>
            <p:nvPr/>
          </p:nvPicPr>
          <p:blipFill>
            <a:blip r:embed="rId2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Rounded Rectangle 17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52" name="Rounded Rectangle 17" descr=""/>
            <p:cNvPicPr/>
            <p:nvPr/>
          </p:nvPicPr>
          <p:blipFill>
            <a:blip r:embed="rId3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Rounded Rectangle 18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55" name="Rounded Rectangle 18" descr=""/>
            <p:cNvPicPr/>
            <p:nvPr/>
          </p:nvPicPr>
          <p:blipFill>
            <a:blip r:embed="rId4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Rounded Rectangle 19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58" name="Rounded Rectangle 19" descr=""/>
            <p:cNvPicPr/>
            <p:nvPr/>
          </p:nvPicPr>
          <p:blipFill>
            <a:blip r:embed="rId5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1" name="Rounded Rectangle 9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62" name="Rounded Rectangle 9" descr=""/>
            <p:cNvPicPr/>
            <p:nvPr/>
          </p:nvPicPr>
          <p:blipFill>
            <a:blip r:embed="rId6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KINGC0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"/>
          <p:cNvSpPr/>
          <p:nvPr/>
        </p:nvSpPr>
        <p:spPr>
          <a:xfrm>
            <a:off x="2457360" y="1967040"/>
            <a:ext cx="535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B Zar"/>
              </a:rPr>
              <a:t>THANKS FOR YOUY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(but not limited to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ressed g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ical equi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al haz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ounded Rectangle 3"/>
          <p:cNvSpPr/>
          <p:nvPr/>
        </p:nvSpPr>
        <p:spPr>
          <a:xfrm>
            <a:off x="428760" y="235728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Physic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Rounded Rectangle 4"/>
          <p:cNvGrpSpPr/>
          <p:nvPr/>
        </p:nvGrpSpPr>
        <p:grpSpPr>
          <a:xfrm>
            <a:off x="407880" y="2840040"/>
            <a:ext cx="1994040" cy="390600"/>
            <a:chOff x="407880" y="2840040"/>
            <a:chExt cx="1994040" cy="390600"/>
          </a:xfrm>
        </p:grpSpPr>
        <p:pic>
          <p:nvPicPr>
            <p:cNvPr id="14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07880" y="2840040"/>
              <a:ext cx="19940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460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4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4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4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5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5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0200" y="1714320"/>
            <a:ext cx="622944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ressed gas cylinders must be restrained in an upright position in the la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s must be in place when cylinder is not in u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sure regulator and supply lines are in good cond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use rigid plastic tubing, which can shatter if the pressure limits are excee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ounded Rectangle 3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6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6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6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6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7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7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571840" y="1714680"/>
            <a:ext cx="611496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urning on the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sure that the flow valve is open (so there will be no pressure in the supply line).  Adjust flow valve only after you have opened the regul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rn your head away from the tan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79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82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85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88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91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11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95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43120" y="1714320"/>
            <a:ext cx="604368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ways inspect electrical cords prior to use.  Do not use if they are cracked or have exposed wir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use electrical appliances near wat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 sure hands are dry when unplugging a cor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not overload outle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void excessive use of extension cord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override the safety features on electrical equip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ounded Rectangle 3">
            <a:hlinkClick r:id="rId1"/>
          </p:cNvPr>
          <p:cNvSpPr/>
          <p:nvPr/>
        </p:nvSpPr>
        <p:spPr>
          <a:xfrm>
            <a:off x="428760" y="3357720"/>
            <a:ext cx="200016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lectrical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0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0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06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09" name="Rounded Rectangle 10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Rounded Rectangle 12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12" name="Rounded Rectangle 12" descr=""/>
            <p:cNvPicPr/>
            <p:nvPr/>
          </p:nvPicPr>
          <p:blipFill>
            <a:blip r:embed="rId7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15" name="Rounded Rectangle 8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work with lasers in your lab, your supervisor should provide you with specific operating procedures and safety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er Safety training is available through UAF EHS&amp;RM (907-474-2762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ounded Rectangle 3">
            <a:hlinkClick r:id="rId1"/>
          </p:cNvPr>
          <p:cNvSpPr/>
          <p:nvPr/>
        </p:nvSpPr>
        <p:spPr>
          <a:xfrm>
            <a:off x="441360" y="385776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2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2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26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Rounded Rectangle 9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29" name="Rounded Rectangle 9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32" name="Rounded Rectangle 10" descr=""/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35" name="Rounded Rectangle 11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499840" y="1714680"/>
            <a:ext cx="5915160" cy="4410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mal hazards include both hot and cold obje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t ite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heat-resistant gloves when handling hot it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heating liquids on hot pl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a stir bar or Boil-Eezers to ensure even heating of the liquids (to prevent superheating and boil-ov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leave hot plates unatten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ounded Rectangle 4"/>
          <p:cNvSpPr/>
          <p:nvPr/>
        </p:nvSpPr>
        <p:spPr>
          <a:xfrm>
            <a:off x="45396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Rounded Rectangle 5"/>
          <p:cNvGrpSpPr/>
          <p:nvPr/>
        </p:nvGrpSpPr>
        <p:grpSpPr>
          <a:xfrm>
            <a:off x="426960" y="2341440"/>
            <a:ext cx="1987560" cy="389160"/>
            <a:chOff x="426960" y="2341440"/>
            <a:chExt cx="1987560" cy="389160"/>
          </a:xfrm>
        </p:grpSpPr>
        <p:pic>
          <p:nvPicPr>
            <p:cNvPr id="240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2696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604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Rounded Rectangle 7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43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46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49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Rounded Rectangle 11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52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56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2499840" y="1714680"/>
            <a:ext cx="6186600" cy="4411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nsen bur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pect tubing prior to using the burner.  It should not have cracks, and should fit tightly to the burner and to the gas spigo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 alert to gas leaks along the tubing—these can igni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 back from the burner when lighting the g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ounded Rectangle 4"/>
          <p:cNvSpPr/>
          <p:nvPr/>
        </p:nvSpPr>
        <p:spPr>
          <a:xfrm>
            <a:off x="47952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Rounded Rectangle 5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61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Rounded Rectangle 7"/>
          <p:cNvGrpSpPr/>
          <p:nvPr/>
        </p:nvGrpSpPr>
        <p:grpSpPr>
          <a:xfrm>
            <a:off x="457200" y="4846680"/>
            <a:ext cx="1987560" cy="384120"/>
            <a:chOff x="457200" y="4846680"/>
            <a:chExt cx="1987560" cy="384120"/>
          </a:xfrm>
        </p:grpSpPr>
        <p:pic>
          <p:nvPicPr>
            <p:cNvPr id="264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572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9068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67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70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Rounded Rectangle 11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73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76" name="Rounded Rectangle 8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500200" y="1714680"/>
            <a:ext cx="641520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quid Nitrogen (LN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insulated or cryoprotective gloves when accessing LN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:  cotton mittens are not sufficient.  Splashes of LN2 can easily penetrate the mittens, causing frostbite and serious inju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face shield or splash goggles to protect face and/or eyes from splas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ounded Rectangle 3"/>
          <p:cNvSpPr/>
          <p:nvPr/>
        </p:nvSpPr>
        <p:spPr>
          <a:xfrm>
            <a:off x="46368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Rounded Rectangle 4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81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84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Rounded Rectangle 8"/>
          <p:cNvGrpSpPr/>
          <p:nvPr/>
        </p:nvGrpSpPr>
        <p:grpSpPr>
          <a:xfrm>
            <a:off x="444600" y="3340080"/>
            <a:ext cx="1987560" cy="390600"/>
            <a:chOff x="444600" y="3340080"/>
            <a:chExt cx="1987560" cy="390600"/>
          </a:xfrm>
        </p:grpSpPr>
        <p:pic>
          <p:nvPicPr>
            <p:cNvPr id="287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77720" y="3375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90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93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96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8:20:37Z</dcterms:created>
  <dc:creator>MRT</dc:creator>
  <dc:description/>
  <dc:language>en-US</dc:language>
  <cp:lastModifiedBy>دشئث</cp:lastModifiedBy>
  <dcterms:modified xsi:type="dcterms:W3CDTF">2010-10-16T17:55:37Z</dcterms:modified>
  <cp:revision>49</cp:revision>
  <dc:subject/>
  <dc:title>Slide 1</dc:title>
</cp:coreProperties>
</file>